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5.bin" ContentType="application/vnd.openxmlformats-officedocument.oleObject"/>
  <Override PartName="/ppt/embeddings/oleObject19.bin" ContentType="application/vnd.openxmlformats-officedocument.oleObject"/>
  <Override PartName="/ppt/embeddings/oleObject21.bin" ContentType="application/vnd.openxmlformats-officedocument.oleObject"/>
  <Override PartName="/ppt/embeddings/oleObject24.bin" ContentType="application/vnd.openxmlformats-officedocument.oleObject"/>
  <Override PartName="/ppt/embeddings/oleObject23.bin" ContentType="application/vnd.openxmlformats-officedocument.oleObject"/>
  <Override PartName="/ppt/embeddings/oleObject2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8FFB-1B79-4535-A3B2-CCCC81842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E87C-43B3-44FD-A0E2-BC0AEA64F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16E4-6D92-471F-947B-61885781D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5491-6F95-498F-AAA5-C35D444AA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DE63-2D13-4A76-8923-AAAE1AC06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8FFC-B23A-4FA6-AD00-03199A5BB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180C-8842-4482-A034-8C90BA42A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9528-A423-4688-81CE-A4E9BDFC5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E709-960B-4353-A039-CCACA4CFA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D0D6-02B4-4B10-8559-C9F6DA1C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8725-3CF4-43F4-BC62-03C1F845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DECD-655E-4973-83EC-52448EDB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BB976-21BF-474C-8D81-BEA32C1C3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.png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.png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.png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.png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3.png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4.png"/><Relationship Id="rId3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.png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.png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.png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5.png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5.png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5.png"/><Relationship Id="rId3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.png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.png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6.png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6.png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.png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.png"/><Relationship Id="rId3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6.png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6.png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6.png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6.png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6.png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6.png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6.png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6.png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6.png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6.png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6.png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6.png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6.png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6.png"/><Relationship Id="rId4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0" y="0"/>
          <a:ext cx="3809880" cy="136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3809880" cy="13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685800" y="1371600"/>
          <a:ext cx="3657600" cy="128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1371600"/>
                    <a:ext cx="3657600" cy="12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0" y="1447920"/>
          <a:ext cx="469800" cy="8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1447920"/>
                    <a:ext cx="4698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3962520" y="2506680"/>
          <a:ext cx="509400" cy="826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62520" y="2506680"/>
                    <a:ext cx="50940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4672080" y="0"/>
          <a:ext cx="3809880" cy="1365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72080" y="0"/>
                    <a:ext cx="3809880" cy="13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5357880" y="1371600"/>
          <a:ext cx="3657600" cy="1289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357880" y="1371600"/>
                    <a:ext cx="3657600" cy="12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4672080" y="1447920"/>
          <a:ext cx="469800" cy="838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672080" y="1447920"/>
                    <a:ext cx="4698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8634240" y="2506680"/>
          <a:ext cx="509760" cy="826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8634240" y="2506680"/>
                    <a:ext cx="50976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0" y="3505320"/>
          <a:ext cx="3809880" cy="1365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0" y="3505320"/>
                    <a:ext cx="3809880" cy="13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685800" y="4876920"/>
          <a:ext cx="3657600" cy="12888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85800" y="4876920"/>
                    <a:ext cx="3657600" cy="12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0" y="4952880"/>
          <a:ext cx="469800" cy="8384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0" y="4952880"/>
                    <a:ext cx="46980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3962520" y="6012000"/>
          <a:ext cx="509400" cy="8269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962520" y="6012000"/>
                    <a:ext cx="50940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4672080" y="3505320"/>
          <a:ext cx="3809880" cy="13651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672080" y="3505320"/>
                    <a:ext cx="3809880" cy="13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5357880" y="4876920"/>
          <a:ext cx="3657600" cy="12888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357880" y="4876920"/>
                    <a:ext cx="3657600" cy="12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4672080" y="4952880"/>
          <a:ext cx="469800" cy="8384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672080" y="4952880"/>
                    <a:ext cx="46980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8634240" y="6012000"/>
          <a:ext cx="509760" cy="8269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8634240" y="6012000"/>
                    <a:ext cx="50976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0" y="0"/>
          <a:ext cx="3809880" cy="136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3809880" cy="13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685800" y="1371600"/>
          <a:ext cx="3657600" cy="128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1371600"/>
                    <a:ext cx="3657600" cy="12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4672080" y="0"/>
          <a:ext cx="3809880" cy="1365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72080" y="0"/>
                    <a:ext cx="3809880" cy="13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5357880" y="1371600"/>
          <a:ext cx="3657600" cy="1289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57880" y="1371600"/>
                    <a:ext cx="3657600" cy="12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0" y="3505320"/>
          <a:ext cx="3809880" cy="1365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3505320"/>
                    <a:ext cx="3809880" cy="13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685800" y="4876920"/>
          <a:ext cx="3657600" cy="1288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85800" y="4876920"/>
                    <a:ext cx="3657600" cy="12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4672080" y="3505320"/>
          <a:ext cx="3809880" cy="1365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672080" y="3505320"/>
                    <a:ext cx="3809880" cy="13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5357880" y="4876920"/>
          <a:ext cx="3657600" cy="1288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357880" y="4876920"/>
                    <a:ext cx="3657600" cy="12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0" y="1447920"/>
          <a:ext cx="812880" cy="6379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0" y="1447920"/>
                    <a:ext cx="812880" cy="63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3657600" y="2743200"/>
          <a:ext cx="812880" cy="638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657600" y="2743200"/>
                    <a:ext cx="8128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4648320" y="1419120"/>
          <a:ext cx="812520" cy="638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648320" y="1419120"/>
                    <a:ext cx="81252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8331120" y="2743200"/>
          <a:ext cx="812880" cy="638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331120" y="2743200"/>
                    <a:ext cx="8128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4648320" y="4952880"/>
          <a:ext cx="812520" cy="6382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648320" y="4952880"/>
                    <a:ext cx="81252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3733920" y="6219720"/>
          <a:ext cx="812520" cy="6382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3733920" y="6219720"/>
                    <a:ext cx="81252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0" y="4876920"/>
          <a:ext cx="812880" cy="6379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0" y="4876920"/>
                    <a:ext cx="812880" cy="63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8331120" y="6219720"/>
          <a:ext cx="812880" cy="6382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8331120" y="6219720"/>
                    <a:ext cx="8128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8413920" y="6095880"/>
          <a:ext cx="73008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920" y="6095880"/>
                    <a:ext cx="73008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4724280" y="4952880"/>
          <a:ext cx="73044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4952880"/>
                    <a:ext cx="7304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4648320" y="3435480"/>
          <a:ext cx="3809880" cy="1365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3435480"/>
                    <a:ext cx="3809880" cy="13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5486400" y="4807080"/>
          <a:ext cx="3657600" cy="128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86400" y="4807080"/>
                    <a:ext cx="3657600" cy="12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765600" y="2660760"/>
          <a:ext cx="730080" cy="761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65600" y="2660760"/>
                    <a:ext cx="73008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76320" y="1517760"/>
          <a:ext cx="730080" cy="761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6320" y="1517760"/>
                    <a:ext cx="73008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0" y="0"/>
          <a:ext cx="3809880" cy="1365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0" y="0"/>
                    <a:ext cx="3809880" cy="13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838080" y="1371600"/>
          <a:ext cx="3657600" cy="1289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838080" y="1371600"/>
                    <a:ext cx="3657600" cy="12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8413920" y="2660760"/>
          <a:ext cx="730080" cy="7617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413920" y="2660760"/>
                    <a:ext cx="73008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4724280" y="1517760"/>
          <a:ext cx="730440" cy="7617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724280" y="1517760"/>
                    <a:ext cx="73044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4648320" y="0"/>
          <a:ext cx="3809880" cy="1365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648320" y="0"/>
                    <a:ext cx="3809880" cy="13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5486400" y="1371600"/>
          <a:ext cx="3657600" cy="12891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486400" y="1371600"/>
                    <a:ext cx="3657600" cy="12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3765600" y="6095880"/>
          <a:ext cx="730080" cy="7621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765600" y="6095880"/>
                    <a:ext cx="73008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76320" y="4952880"/>
          <a:ext cx="730080" cy="7621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76320" y="4952880"/>
                    <a:ext cx="73008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0" y="3511440"/>
          <a:ext cx="3809880" cy="136548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0" y="3511440"/>
                    <a:ext cx="3809880" cy="13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838080" y="4807080"/>
          <a:ext cx="3657600" cy="12888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838080" y="4807080"/>
                    <a:ext cx="3657600" cy="12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4648320" y="3511440"/>
          <a:ext cx="3809880" cy="136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3511440"/>
                    <a:ext cx="3809880" cy="13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5486400" y="4807080"/>
          <a:ext cx="3657600" cy="128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4807080"/>
                    <a:ext cx="3657600" cy="12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0" y="1523880"/>
          <a:ext cx="511200" cy="533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1523880"/>
                    <a:ext cx="5112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0" y="0"/>
          <a:ext cx="3809880" cy="1365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0"/>
                    <a:ext cx="3809880" cy="13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838080" y="1371600"/>
          <a:ext cx="3657600" cy="1289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38080" y="1371600"/>
                    <a:ext cx="3657600" cy="12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4648320" y="0"/>
          <a:ext cx="3809880" cy="1365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648320" y="0"/>
                    <a:ext cx="3809880" cy="13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5486400" y="1371600"/>
          <a:ext cx="3657600" cy="1289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486400" y="1371600"/>
                    <a:ext cx="3657600" cy="12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479520" y="1523880"/>
          <a:ext cx="511200" cy="533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79520" y="1523880"/>
                    <a:ext cx="5112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0" y="3511440"/>
          <a:ext cx="3809880" cy="1365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0" y="3511440"/>
                    <a:ext cx="3809880" cy="13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838080" y="4807080"/>
          <a:ext cx="3657600" cy="12888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838080" y="4807080"/>
                    <a:ext cx="3657600" cy="12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3483000" y="2743200"/>
          <a:ext cx="511200" cy="5335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483000" y="2743200"/>
                    <a:ext cx="5112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3962520" y="2743200"/>
          <a:ext cx="511200" cy="533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962520" y="2743200"/>
                    <a:ext cx="5112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4670280" y="1447920"/>
          <a:ext cx="511200" cy="5331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670280" y="1447920"/>
                    <a:ext cx="51120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5149800" y="1447920"/>
          <a:ext cx="511200" cy="5331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149800" y="1447920"/>
                    <a:ext cx="51120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8153280" y="2666880"/>
          <a:ext cx="511200" cy="5335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8153280" y="2666880"/>
                    <a:ext cx="5112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8632800" y="2666880"/>
          <a:ext cx="511200" cy="5335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8632800" y="2666880"/>
                    <a:ext cx="5112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0" y="4952880"/>
          <a:ext cx="511200" cy="5335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0" y="4952880"/>
                    <a:ext cx="5112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479520" y="4952880"/>
          <a:ext cx="511200" cy="53352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79520" y="4952880"/>
                    <a:ext cx="5112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3483000" y="6172200"/>
          <a:ext cx="511200" cy="53352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3483000" y="6172200"/>
                    <a:ext cx="5112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3962520" y="6172200"/>
          <a:ext cx="511200" cy="53352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3962520" y="6172200"/>
                    <a:ext cx="5112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4594320" y="4952880"/>
          <a:ext cx="511200" cy="53352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4594320" y="4952880"/>
                    <a:ext cx="5112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5073480" y="4952880"/>
          <a:ext cx="511200" cy="53352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5073480" y="4952880"/>
                    <a:ext cx="5112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8077320" y="6172200"/>
          <a:ext cx="511200" cy="53352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8077320" y="6172200"/>
                    <a:ext cx="5112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8556480" y="6172200"/>
          <a:ext cx="511200" cy="53352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8556480" y="6172200"/>
                    <a:ext cx="5112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3T17:53:10Z</dcterms:created>
  <dc:creator>Dina Winterton</dc:creator>
  <dc:description/>
  <dc:language>en-US</dc:language>
  <cp:lastModifiedBy>Dina Winterton</cp:lastModifiedBy>
  <dcterms:modified xsi:type="dcterms:W3CDTF">2009-04-13T19:14:56Z</dcterms:modified>
  <cp:revision>5</cp:revision>
  <dc:subject/>
  <dc:title>Slide 1</dc:title>
</cp:coreProperties>
</file>